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05EE-E139-48D9-B086-9670BE6C0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6414-DAB0-44EA-93DF-6C124DFE5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4E2B-36EA-4B49-BFA6-A0D4DEFA9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391A-77BD-415B-B0BC-40223F28A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FA14B-919E-4A5F-869D-A8214FD1C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2EE1D-6F10-4A1C-BBAD-3679F2837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C6E21-F7C7-4506-8B58-E8337E0C0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7A7FD-14BE-462C-8162-0466DA64F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D25AF-E29C-4D9D-9D5E-A921C2A65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AE7C1-A8F9-4B12-A3B5-76D58E21A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58214-BC9E-4C1A-8056-091ED9FB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4D22-3249-42E5-93EE-5AA0A14E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06314-D4A9-429F-A3BD-210B77C1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8ABCE-0E39-4B3F-B4A4-5E39F784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71A14-AE09-4319-B574-DC9B28F02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4984D-9D08-4621-B2E0-56BEDC949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9E28C-1FBB-4937-B921-D3DE1D56E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67AA-8B91-4767-B92B-EC3139D1B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B97C-138E-4FB0-99DC-B7E1425AB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EAAB-5037-4B2E-B30E-62BC66A45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3DB4-FB88-4E53-AD9E-45AEB6F25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4CC9-79D8-4B81-9DF3-84D9EBBD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D7FC-8AC6-4663-8429-2BD30602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AE9F-0213-4211-B62C-E6AE7015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3858F-B84A-43A1-B69A-A99AFA5A82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E1BF6-CE21-48E0-AE71-9501E35FD8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b7e7ff"/>
                </a:solidFill>
                <a:latin typeface="Monotype Corsiva"/>
              </a:rPr>
              <a:t>Cercetarea de marketing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ctr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Monotype Corsiva"/>
              </a:rPr>
              <a:t>Cercetarea de marketing reprezinta principalul mijloc al unui agent economic sau organizatii de a obtine informatii utile in momentul in care trebuie fundamentata strategia de marketing sau elaborat un plan de marketin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4000" spc="-1" strike="noStrike">
                <a:solidFill>
                  <a:srgbClr val="ffffff"/>
                </a:solidFill>
                <a:latin typeface="Monotype Corsiva"/>
              </a:rPr>
              <a:t>Obiectivul urmarit de firma noastra este acela de a determina cerintele clientilor si de a le satisface la cel mai inalt gra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b7e7ff"/>
                </a:solidFill>
                <a:latin typeface="Monotype Corsiva"/>
              </a:rPr>
              <a:t>Etapele cercetarii de marketing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Monotype Corsiva"/>
              </a:rPr>
              <a:t>Definirea obiectivului cercetari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Monotype Corsiva"/>
              </a:rPr>
              <a:t>Stabilirea metodei de realizare a cercetarii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Monotype Corsiva"/>
              </a:rPr>
              <a:t>Elaborarea planului de cerceta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Monotype Corsiva"/>
              </a:rPr>
              <a:t>Culegerea efectiva a informatiilor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Monotype Corsiva"/>
              </a:rPr>
              <a:t>Analiza rezultatelor obtinut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Monotype Corsiva"/>
              </a:rPr>
              <a:t>Redactarea si prezentarea raportulu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768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" dur="768" fill="hold"/>
                                        <p:tgtEl>
                                          <p:spTgt spid="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" dur="768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" dur="768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b7e7ff"/>
                </a:solidFill>
                <a:latin typeface="Monotype Corsiva"/>
              </a:rPr>
              <a:t>Metode posibile de cercetare a pietei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Monotype Corsiva"/>
              </a:rPr>
              <a:t>Investigarea surselor statistic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Monotype Corsiva"/>
              </a:rPr>
              <a:t>Cercetarea directa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Monotype Corsiva"/>
              </a:rPr>
              <a:t>Experimentul de marketing</a:t>
            </a:r>
            <a:r>
              <a:rPr b="0" lang="en-US" sz="40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768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" dur="768" fill="hold"/>
                                        <p:tgtEl>
                                          <p:spTgt spid="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6" dur="768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" dur="768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b7e7ff"/>
                </a:solidFill>
                <a:latin typeface="Monotype Corsiva"/>
              </a:rPr>
              <a:t>Elaborarea chestionarului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onotype Corsiva"/>
              </a:rPr>
              <a:t>Definirea clara a informatiilor ce trebuie obtinute cu ajutorul chestionarulu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onotype Corsiva"/>
              </a:rPr>
              <a:t>Formularea intrebarilor care sa conduca la obtinerea informatiilo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onotype Corsiva"/>
              </a:rPr>
              <a:t>Aranjarea intrebarilor intr-o ordine log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onotype Corsiva"/>
              </a:rPr>
              <a:t>Prestarea chestionarului pe un esantion unic de interlocuto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onotype Corsiva"/>
              </a:rPr>
              <a:t>Analiza rezultatelor anchetei pilot din punct de vedere al relevantei informatiilor si a posibilitatilor de tabelare a datelo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onotype Corsiva"/>
              </a:rPr>
              <a:t>Definirea chestionarului in functie de rezultatele anchetei pil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768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" dur="768" fill="hold"/>
                                        <p:tgtEl>
                                          <p:spTgt spid="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0" dur="768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2" dur="768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b7e7ff"/>
                </a:solidFill>
                <a:latin typeface="Monotype Corsiva"/>
              </a:rPr>
              <a:t>Intocmirea raportului cuprinde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Monotype Corsiva"/>
              </a:rPr>
              <a:t>O introducer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Monotype Corsiva"/>
              </a:rPr>
              <a:t>Obiectivele cercetari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Monotype Corsiva"/>
              </a:rPr>
              <a:t>Metodologia de realizare a cercetarii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Monotype Corsiva"/>
              </a:rPr>
              <a:t>Rezultatele obtinute in urma enectuarii cercetari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Monotype Corsiva"/>
              </a:rPr>
              <a:t>Limitele cercetari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Monotype Corsiva"/>
              </a:rPr>
              <a:t>Concluziile si recomandarile rezulta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768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3" dur="768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5" dur="768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7" dur="768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56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b7e7ff"/>
                </a:solidFill>
                <a:latin typeface="Monotype Corsiva"/>
              </a:rPr>
              <a:t>Cercetarea a fost realizata de SC.DARIMTURIST.SRL</a:t>
            </a:r>
            <a:endParaRPr b="0" lang="en-US" sz="6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768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8" dur="768" fill="hold"/>
                                        <p:tgtEl>
                                          <p:spTgt spid="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0" dur="768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2" dur="768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0T11:10:17Z</dcterms:created>
  <dc:creator>Alina</dc:creator>
  <dc:description/>
  <dc:language>en-US</dc:language>
  <cp:lastModifiedBy>Alina</cp:lastModifiedBy>
  <dcterms:modified xsi:type="dcterms:W3CDTF">2010-05-20T12:00:19Z</dcterms:modified>
  <cp:revision>3</cp:revision>
  <dc:subject/>
  <dc:title>CERCETARI DE MARKETING</dc:title>
</cp:coreProperties>
</file>